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28.jpeg" ContentType="image/jpeg"/>
  <Override PartName="/ppt/media/image25.gif" ContentType="image/gif"/>
  <Override PartName="/ppt/media/image18.png" ContentType="image/png"/>
  <Override PartName="/ppt/media/image30.gif" ContentType="image/gif"/>
  <Override PartName="/ppt/media/image9.gif" ContentType="image/gif"/>
  <Override PartName="/ppt/media/image34.gif" ContentType="image/gif"/>
  <Override PartName="/ppt/media/image20.jpeg" ContentType="image/jpeg"/>
  <Override PartName="/ppt/media/image31.jpeg" ContentType="image/jpeg"/>
  <Override PartName="/ppt/media/image32.jpeg" ContentType="image/jpeg"/>
  <Override PartName="/ppt/media/image33.gif" ContentType="image/gif"/>
  <Override PartName="/ppt/media/image6.gif" ContentType="image/gif"/>
  <Override PartName="/ppt/media/image7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breeze.wav" ContentType="audio/x-wav"/>
  <Override PartName="/ppt/media/image27.jpeg" ContentType="image/jpeg"/>
  <Override PartName="/ppt/media/image1.jpeg" ContentType="image/jpeg"/>
  <Override PartName="/ppt/media/image13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5EF-0400-4261-AC6B-CB94383A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E58-B071-4686-AF09-77652482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40B-1405-4CC6-B756-A5D1D156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8AD-143C-4CFF-8F08-AFF51FC1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51FC-5224-47C2-A8EB-5E06EF2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7574-5546-40F2-99E5-040CAFE5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D7F1-7E22-4ECD-9160-59D22A49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505-6757-4783-A04A-06CF148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BD2-9FC1-4299-A491-98974735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49BA-B6C1-428D-A3E8-0287E6E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307-3F85-4596-B508-62331CE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ABC-794D-42CF-AD3B-BCAA8EE7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F300-4570-40B9-A34F-9EB7FD9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F9B-3A76-4DA4-BC25-52DEBA2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5D72-2FEC-4C35-82C2-287C37F4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18B-41C1-41C6-8BD4-B20352C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E51C-A5BB-4F08-8504-5FE406B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4E4-CF96-4E66-8C33-3528D1C0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4E0-952D-412D-88FA-24165FB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241-6629-4439-9EF4-7978D56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938-AB38-4775-AD19-4170C22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F27-7A3F-4DC0-8A6B-BD884A7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645-4723-4F70-A60D-2F00BD6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2EF-FE6C-483F-B822-60D79B2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CC9E-D9D2-4D3D-A37F-3D3C9E1A5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816-2356-4222-871E-82AB8F58E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5.gif"/><Relationship Id="rId5" Type="http://schemas.openxmlformats.org/officeDocument/2006/relationships/image" Target="../media/image30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35.gif"/><Relationship Id="rId5" Type="http://schemas.openxmlformats.org/officeDocument/2006/relationships/image" Target="../media/image36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tmosphe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3733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tmosphere is divided up into layers that are based upon their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layer is found in the strat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80880"/>
            <a:ext cx="1447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152388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990720"/>
            <a:ext cx="3429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draw and fill In the air composition pie graph to the righ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nd label the 4 layers of the atmosphere, starting with the bottom layer and working your way 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6252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4038480" y="55627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352680"/>
            <a:ext cx="167652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1911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p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% Other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image: pie chart showing that air is made up of nitrogen (78%), oxygen (21%) and other gases (1%)"/>
          <p:cNvPicPr/>
          <p:nvPr/>
        </p:nvPicPr>
        <p:blipFill>
          <a:blip r:embed="rId3"/>
          <a:stretch/>
        </p:blipFill>
        <p:spPr>
          <a:xfrm>
            <a:off x="3809880" y="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7600" y="2438280"/>
            <a:ext cx="18288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much radiation form the sun is either absorbed or reflected by our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the earth’s transfers heat by convection due to the unequal heating between the equator and po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have a basic understanding of what he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ouch something hot, it has h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is one form of energy, but heat is anther form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always wants to move from something hot, to something co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nergy that flow from an object with a higher temperature to an object with a lower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when radiation is being absorbed by our earth, it heats up through conduction or convection we h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Hea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is the energy that flows from an object with a ____temperature to an object with a _____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eat is transferred through conduction and conv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du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ever walked  bare feet on hot asphalt, on a hot summer day you know how hot the surface can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eet heat up because of conduction, that is, hot molecules bump into molecules on your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bove the asphalt is heated in exactly the same way, hot asphalt molecules bump into air molecules transferring heat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du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429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____ into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vection is the transfer of heat by the flow of a heated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ccurs with gases and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297144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ve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0135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by the _____of a heated material such as a gas or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22868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ergy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enters our atmospher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is the transfer of energy in the form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include: Radio waves, Microwaves, Infrared, Light, X-Rays, UV, and Gamma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can be harmless or even dangerous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an atmospher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atmospheric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air pressure changes with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4 layers of our atmosphere and that these layers are based upon temperature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Radi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032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adiation is energy in the form of Electromagnetic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Radio waves, Infrared, Light, X-rays, _____wav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olar Rad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olar radiation is reflected by our atmosphere and some is absorbed a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228600" y="2819520"/>
            <a:ext cx="9600840" cy="4343040"/>
            <a:chOff x="-228600" y="2819520"/>
            <a:chExt cx="9600840" cy="4343040"/>
          </a:xfrm>
        </p:grpSpPr>
        <p:sp>
          <p:nvSpPr>
            <p:cNvPr id="165" name=""/>
            <p:cNvSpPr/>
            <p:nvPr/>
          </p:nvSpPr>
          <p:spPr>
            <a:xfrm>
              <a:off x="-228600" y="2819520"/>
              <a:ext cx="9600840" cy="43430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17640" y="3250440"/>
              <a:ext cx="9181440" cy="348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reez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85800" y="3048120"/>
            <a:ext cx="10515600" cy="3504960"/>
          </a:xfrm>
          <a:prstGeom prst="ellipse">
            <a:avLst/>
          </a:prstGeom>
          <a:solidFill>
            <a:srgbClr val="6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80880" y="4572000"/>
            <a:ext cx="10210680" cy="32767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276720"/>
            <a:ext cx="1295640" cy="533160"/>
          </a:xfrm>
          <a:prstGeom prst="cloudCallout">
            <a:avLst>
              <a:gd name="adj1" fmla="val -21078"/>
              <a:gd name="adj2" fmla="val 34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429000"/>
            <a:ext cx="1523880" cy="533520"/>
          </a:xfrm>
          <a:prstGeom prst="cloudCallout">
            <a:avLst>
              <a:gd name="adj1" fmla="val -31768"/>
              <a:gd name="adj2" fmla="val 2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29000"/>
            <a:ext cx="1295280" cy="533520"/>
          </a:xfrm>
          <a:prstGeom prst="cloudCallout">
            <a:avLst>
              <a:gd name="adj1" fmla="val -21078"/>
              <a:gd name="adj2" fmla="val 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76520"/>
            <a:ext cx="1143000" cy="30477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1981080" cy="1828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76520"/>
            <a:ext cx="83808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762120"/>
            <a:ext cx="4572000" cy="3886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762120"/>
            <a:ext cx="3429000" cy="1523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28600"/>
            <a:ext cx="6248520" cy="4648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53316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228600" cy="3353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0" cy="3657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52360" y="4770360"/>
            <a:ext cx="2167200" cy="2579760"/>
          </a:xfrm>
          <a:custGeom>
            <a:avLst/>
            <a:gdLst/>
            <a:ahLst/>
            <a:rect l="l" t="t" r="r" b="b"/>
            <a:pathLst>
              <a:path w="1365" h="1625">
                <a:moveTo>
                  <a:pt x="600" y="27"/>
                </a:moveTo>
                <a:cubicBezTo>
                  <a:pt x="813" y="10"/>
                  <a:pt x="885" y="0"/>
                  <a:pt x="1154" y="27"/>
                </a:cubicBezTo>
                <a:cubicBezTo>
                  <a:pt x="1167" y="28"/>
                  <a:pt x="1167" y="51"/>
                  <a:pt x="1176" y="60"/>
                </a:cubicBezTo>
                <a:cubicBezTo>
                  <a:pt x="1206" y="90"/>
                  <a:pt x="1278" y="117"/>
                  <a:pt x="1317" y="147"/>
                </a:cubicBezTo>
                <a:cubicBezTo>
                  <a:pt x="1365" y="289"/>
                  <a:pt x="1348" y="212"/>
                  <a:pt x="1328" y="473"/>
                </a:cubicBezTo>
                <a:cubicBezTo>
                  <a:pt x="1325" y="509"/>
                  <a:pt x="1252" y="549"/>
                  <a:pt x="1252" y="549"/>
                </a:cubicBezTo>
                <a:cubicBezTo>
                  <a:pt x="1215" y="603"/>
                  <a:pt x="1140" y="612"/>
                  <a:pt x="1100" y="668"/>
                </a:cubicBezTo>
                <a:cubicBezTo>
                  <a:pt x="1069" y="712"/>
                  <a:pt x="1062" y="771"/>
                  <a:pt x="1045" y="821"/>
                </a:cubicBezTo>
                <a:cubicBezTo>
                  <a:pt x="1049" y="890"/>
                  <a:pt x="1045" y="1016"/>
                  <a:pt x="1078" y="1092"/>
                </a:cubicBezTo>
                <a:cubicBezTo>
                  <a:pt x="1090" y="1119"/>
                  <a:pt x="1112" y="1168"/>
                  <a:pt x="1132" y="1190"/>
                </a:cubicBezTo>
                <a:cubicBezTo>
                  <a:pt x="1152" y="1213"/>
                  <a:pt x="1198" y="1255"/>
                  <a:pt x="1198" y="1255"/>
                </a:cubicBezTo>
                <a:cubicBezTo>
                  <a:pt x="1226" y="1349"/>
                  <a:pt x="1180" y="1211"/>
                  <a:pt x="1241" y="1331"/>
                </a:cubicBezTo>
                <a:cubicBezTo>
                  <a:pt x="1251" y="1352"/>
                  <a:pt x="1263" y="1397"/>
                  <a:pt x="1263" y="1397"/>
                </a:cubicBezTo>
                <a:cubicBezTo>
                  <a:pt x="1259" y="1415"/>
                  <a:pt x="1263" y="1436"/>
                  <a:pt x="1252" y="1451"/>
                </a:cubicBezTo>
                <a:cubicBezTo>
                  <a:pt x="1242" y="1464"/>
                  <a:pt x="1222" y="1465"/>
                  <a:pt x="1208" y="1473"/>
                </a:cubicBezTo>
                <a:cubicBezTo>
                  <a:pt x="1173" y="1494"/>
                  <a:pt x="1109" y="1530"/>
                  <a:pt x="1078" y="1560"/>
                </a:cubicBezTo>
                <a:cubicBezTo>
                  <a:pt x="1067" y="1571"/>
                  <a:pt x="1058" y="1585"/>
                  <a:pt x="1045" y="1592"/>
                </a:cubicBezTo>
                <a:cubicBezTo>
                  <a:pt x="1025" y="1603"/>
                  <a:pt x="1002" y="1607"/>
                  <a:pt x="980" y="1614"/>
                </a:cubicBezTo>
                <a:cubicBezTo>
                  <a:pt x="969" y="1618"/>
                  <a:pt x="948" y="1625"/>
                  <a:pt x="948" y="1625"/>
                </a:cubicBezTo>
                <a:cubicBezTo>
                  <a:pt x="857" y="1621"/>
                  <a:pt x="767" y="1620"/>
                  <a:pt x="676" y="1614"/>
                </a:cubicBezTo>
                <a:cubicBezTo>
                  <a:pt x="604" y="1609"/>
                  <a:pt x="546" y="1560"/>
                  <a:pt x="480" y="1538"/>
                </a:cubicBezTo>
                <a:cubicBezTo>
                  <a:pt x="438" y="1495"/>
                  <a:pt x="424" y="1507"/>
                  <a:pt x="383" y="1473"/>
                </a:cubicBezTo>
                <a:cubicBezTo>
                  <a:pt x="297" y="1402"/>
                  <a:pt x="400" y="1473"/>
                  <a:pt x="317" y="1418"/>
                </a:cubicBezTo>
                <a:cubicBezTo>
                  <a:pt x="310" y="1407"/>
                  <a:pt x="305" y="1395"/>
                  <a:pt x="296" y="1386"/>
                </a:cubicBezTo>
                <a:cubicBezTo>
                  <a:pt x="287" y="1377"/>
                  <a:pt x="270" y="1375"/>
                  <a:pt x="263" y="1364"/>
                </a:cubicBezTo>
                <a:cubicBezTo>
                  <a:pt x="251" y="1345"/>
                  <a:pt x="248" y="1321"/>
                  <a:pt x="241" y="1299"/>
                </a:cubicBezTo>
                <a:cubicBezTo>
                  <a:pt x="237" y="1288"/>
                  <a:pt x="230" y="1266"/>
                  <a:pt x="230" y="1266"/>
                </a:cubicBezTo>
                <a:cubicBezTo>
                  <a:pt x="232" y="1246"/>
                  <a:pt x="236" y="1150"/>
                  <a:pt x="252" y="1114"/>
                </a:cubicBezTo>
                <a:cubicBezTo>
                  <a:pt x="288" y="1032"/>
                  <a:pt x="342" y="955"/>
                  <a:pt x="383" y="875"/>
                </a:cubicBezTo>
                <a:cubicBezTo>
                  <a:pt x="410" y="755"/>
                  <a:pt x="372" y="898"/>
                  <a:pt x="415" y="799"/>
                </a:cubicBezTo>
                <a:cubicBezTo>
                  <a:pt x="457" y="701"/>
                  <a:pt x="393" y="803"/>
                  <a:pt x="448" y="723"/>
                </a:cubicBezTo>
                <a:cubicBezTo>
                  <a:pt x="439" y="619"/>
                  <a:pt x="443" y="532"/>
                  <a:pt x="350" y="473"/>
                </a:cubicBezTo>
                <a:cubicBezTo>
                  <a:pt x="296" y="392"/>
                  <a:pt x="180" y="339"/>
                  <a:pt x="89" y="310"/>
                </a:cubicBezTo>
                <a:cubicBezTo>
                  <a:pt x="66" y="303"/>
                  <a:pt x="47" y="285"/>
                  <a:pt x="24" y="277"/>
                </a:cubicBezTo>
                <a:cubicBezTo>
                  <a:pt x="0" y="205"/>
                  <a:pt x="2" y="235"/>
                  <a:pt x="2" y="190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14640" y="4624560"/>
            <a:ext cx="4075200" cy="2984400"/>
          </a:xfrm>
          <a:custGeom>
            <a:avLst/>
            <a:gdLst/>
            <a:ahLst/>
            <a:rect l="l" t="t" r="r" b="b"/>
            <a:pathLst>
              <a:path w="2567" h="1880">
                <a:moveTo>
                  <a:pt x="957" y="0"/>
                </a:moveTo>
                <a:cubicBezTo>
                  <a:pt x="897" y="11"/>
                  <a:pt x="846" y="24"/>
                  <a:pt x="784" y="32"/>
                </a:cubicBezTo>
                <a:cubicBezTo>
                  <a:pt x="718" y="54"/>
                  <a:pt x="655" y="59"/>
                  <a:pt x="588" y="76"/>
                </a:cubicBezTo>
                <a:cubicBezTo>
                  <a:pt x="491" y="100"/>
                  <a:pt x="406" y="120"/>
                  <a:pt x="305" y="130"/>
                </a:cubicBezTo>
                <a:cubicBezTo>
                  <a:pt x="273" y="152"/>
                  <a:pt x="238" y="159"/>
                  <a:pt x="208" y="184"/>
                </a:cubicBezTo>
                <a:cubicBezTo>
                  <a:pt x="122" y="255"/>
                  <a:pt x="225" y="184"/>
                  <a:pt x="142" y="239"/>
                </a:cubicBezTo>
                <a:cubicBezTo>
                  <a:pt x="117" y="277"/>
                  <a:pt x="84" y="291"/>
                  <a:pt x="55" y="326"/>
                </a:cubicBezTo>
                <a:cubicBezTo>
                  <a:pt x="30" y="356"/>
                  <a:pt x="23" y="391"/>
                  <a:pt x="1" y="423"/>
                </a:cubicBezTo>
                <a:cubicBezTo>
                  <a:pt x="5" y="481"/>
                  <a:pt x="0" y="540"/>
                  <a:pt x="12" y="597"/>
                </a:cubicBezTo>
                <a:cubicBezTo>
                  <a:pt x="19" y="632"/>
                  <a:pt x="54" y="630"/>
                  <a:pt x="77" y="641"/>
                </a:cubicBezTo>
                <a:cubicBezTo>
                  <a:pt x="135" y="670"/>
                  <a:pt x="175" y="693"/>
                  <a:pt x="240" y="706"/>
                </a:cubicBezTo>
                <a:cubicBezTo>
                  <a:pt x="354" y="782"/>
                  <a:pt x="183" y="673"/>
                  <a:pt x="316" y="739"/>
                </a:cubicBezTo>
                <a:cubicBezTo>
                  <a:pt x="355" y="758"/>
                  <a:pt x="399" y="790"/>
                  <a:pt x="436" y="815"/>
                </a:cubicBezTo>
                <a:cubicBezTo>
                  <a:pt x="466" y="861"/>
                  <a:pt x="503" y="898"/>
                  <a:pt x="534" y="945"/>
                </a:cubicBezTo>
                <a:cubicBezTo>
                  <a:pt x="541" y="956"/>
                  <a:pt x="555" y="978"/>
                  <a:pt x="555" y="978"/>
                </a:cubicBezTo>
                <a:cubicBezTo>
                  <a:pt x="551" y="1036"/>
                  <a:pt x="550" y="1094"/>
                  <a:pt x="544" y="1152"/>
                </a:cubicBezTo>
                <a:cubicBezTo>
                  <a:pt x="543" y="1163"/>
                  <a:pt x="541" y="1175"/>
                  <a:pt x="534" y="1184"/>
                </a:cubicBezTo>
                <a:cubicBezTo>
                  <a:pt x="526" y="1194"/>
                  <a:pt x="511" y="1198"/>
                  <a:pt x="501" y="1206"/>
                </a:cubicBezTo>
                <a:cubicBezTo>
                  <a:pt x="471" y="1231"/>
                  <a:pt x="471" y="1244"/>
                  <a:pt x="436" y="1260"/>
                </a:cubicBezTo>
                <a:cubicBezTo>
                  <a:pt x="301" y="1320"/>
                  <a:pt x="442" y="1236"/>
                  <a:pt x="305" y="1325"/>
                </a:cubicBezTo>
                <a:cubicBezTo>
                  <a:pt x="222" y="1379"/>
                  <a:pt x="179" y="1477"/>
                  <a:pt x="99" y="1532"/>
                </a:cubicBezTo>
                <a:cubicBezTo>
                  <a:pt x="91" y="1555"/>
                  <a:pt x="67" y="1573"/>
                  <a:pt x="66" y="1597"/>
                </a:cubicBezTo>
                <a:cubicBezTo>
                  <a:pt x="63" y="1666"/>
                  <a:pt x="63" y="1736"/>
                  <a:pt x="77" y="1804"/>
                </a:cubicBezTo>
                <a:cubicBezTo>
                  <a:pt x="79" y="1815"/>
                  <a:pt x="100" y="1810"/>
                  <a:pt x="110" y="1815"/>
                </a:cubicBezTo>
                <a:cubicBezTo>
                  <a:pt x="201" y="1860"/>
                  <a:pt x="170" y="1866"/>
                  <a:pt x="284" y="1880"/>
                </a:cubicBezTo>
                <a:cubicBezTo>
                  <a:pt x="412" y="1866"/>
                  <a:pt x="349" y="1877"/>
                  <a:pt x="468" y="1847"/>
                </a:cubicBezTo>
                <a:cubicBezTo>
                  <a:pt x="483" y="1843"/>
                  <a:pt x="512" y="1836"/>
                  <a:pt x="512" y="1836"/>
                </a:cubicBezTo>
                <a:cubicBezTo>
                  <a:pt x="655" y="1742"/>
                  <a:pt x="949" y="1721"/>
                  <a:pt x="1110" y="1717"/>
                </a:cubicBezTo>
                <a:cubicBezTo>
                  <a:pt x="1349" y="1711"/>
                  <a:pt x="1588" y="1710"/>
                  <a:pt x="1827" y="1706"/>
                </a:cubicBezTo>
                <a:cubicBezTo>
                  <a:pt x="1874" y="1674"/>
                  <a:pt x="1929" y="1666"/>
                  <a:pt x="1979" y="1641"/>
                </a:cubicBezTo>
                <a:cubicBezTo>
                  <a:pt x="2055" y="1603"/>
                  <a:pt x="1965" y="1631"/>
                  <a:pt x="2055" y="1608"/>
                </a:cubicBezTo>
                <a:cubicBezTo>
                  <a:pt x="2108" y="1573"/>
                  <a:pt x="2151" y="1549"/>
                  <a:pt x="2207" y="1521"/>
                </a:cubicBezTo>
                <a:cubicBezTo>
                  <a:pt x="2244" y="1502"/>
                  <a:pt x="2272" y="1469"/>
                  <a:pt x="2305" y="1445"/>
                </a:cubicBezTo>
                <a:cubicBezTo>
                  <a:pt x="2453" y="1338"/>
                  <a:pt x="2257" y="1479"/>
                  <a:pt x="2381" y="1380"/>
                </a:cubicBezTo>
                <a:cubicBezTo>
                  <a:pt x="2405" y="1360"/>
                  <a:pt x="2457" y="1325"/>
                  <a:pt x="2457" y="1325"/>
                </a:cubicBezTo>
                <a:cubicBezTo>
                  <a:pt x="2482" y="1251"/>
                  <a:pt x="2448" y="1344"/>
                  <a:pt x="2501" y="1239"/>
                </a:cubicBezTo>
                <a:cubicBezTo>
                  <a:pt x="2528" y="1187"/>
                  <a:pt x="2551" y="1122"/>
                  <a:pt x="2566" y="1065"/>
                </a:cubicBezTo>
                <a:cubicBezTo>
                  <a:pt x="2563" y="1033"/>
                  <a:pt x="2567" y="947"/>
                  <a:pt x="2544" y="902"/>
                </a:cubicBezTo>
                <a:cubicBezTo>
                  <a:pt x="2521" y="856"/>
                  <a:pt x="2507" y="859"/>
                  <a:pt x="2457" y="826"/>
                </a:cubicBezTo>
                <a:cubicBezTo>
                  <a:pt x="2369" y="768"/>
                  <a:pt x="2382" y="759"/>
                  <a:pt x="2294" y="739"/>
                </a:cubicBezTo>
                <a:cubicBezTo>
                  <a:pt x="2215" y="685"/>
                  <a:pt x="2079" y="676"/>
                  <a:pt x="1990" y="673"/>
                </a:cubicBezTo>
                <a:cubicBezTo>
                  <a:pt x="1823" y="668"/>
                  <a:pt x="1657" y="666"/>
                  <a:pt x="1490" y="663"/>
                </a:cubicBezTo>
                <a:cubicBezTo>
                  <a:pt x="1417" y="655"/>
                  <a:pt x="1345" y="648"/>
                  <a:pt x="1273" y="630"/>
                </a:cubicBezTo>
                <a:cubicBezTo>
                  <a:pt x="1258" y="608"/>
                  <a:pt x="1225" y="591"/>
                  <a:pt x="1229" y="565"/>
                </a:cubicBezTo>
                <a:cubicBezTo>
                  <a:pt x="1244" y="478"/>
                  <a:pt x="1243" y="464"/>
                  <a:pt x="1294" y="402"/>
                </a:cubicBezTo>
                <a:cubicBezTo>
                  <a:pt x="1329" y="360"/>
                  <a:pt x="1311" y="347"/>
                  <a:pt x="1360" y="315"/>
                </a:cubicBezTo>
                <a:cubicBezTo>
                  <a:pt x="1400" y="183"/>
                  <a:pt x="1453" y="223"/>
                  <a:pt x="1620" y="217"/>
                </a:cubicBezTo>
                <a:cubicBezTo>
                  <a:pt x="1772" y="212"/>
                  <a:pt x="1925" y="210"/>
                  <a:pt x="2077" y="206"/>
                </a:cubicBezTo>
                <a:cubicBezTo>
                  <a:pt x="2081" y="195"/>
                  <a:pt x="2083" y="183"/>
                  <a:pt x="2088" y="173"/>
                </a:cubicBezTo>
                <a:cubicBezTo>
                  <a:pt x="2094" y="162"/>
                  <a:pt x="2112" y="153"/>
                  <a:pt x="2109" y="141"/>
                </a:cubicBezTo>
                <a:cubicBezTo>
                  <a:pt x="2106" y="130"/>
                  <a:pt x="2088" y="134"/>
                  <a:pt x="2077" y="130"/>
                </a:cubicBezTo>
                <a:cubicBezTo>
                  <a:pt x="2053" y="94"/>
                  <a:pt x="2055" y="110"/>
                  <a:pt x="2055" y="87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029200"/>
            <a:ext cx="1017360" cy="1089000"/>
          </a:xfrm>
          <a:custGeom>
            <a:avLst/>
            <a:gdLst/>
            <a:ahLst/>
            <a:rect l="l" t="t" r="r" b="b"/>
            <a:pathLst>
              <a:path w="641" h="686">
                <a:moveTo>
                  <a:pt x="13" y="0"/>
                </a:moveTo>
                <a:cubicBezTo>
                  <a:pt x="18" y="98"/>
                  <a:pt x="0" y="201"/>
                  <a:pt x="34" y="293"/>
                </a:cubicBezTo>
                <a:cubicBezTo>
                  <a:pt x="38" y="304"/>
                  <a:pt x="55" y="303"/>
                  <a:pt x="67" y="304"/>
                </a:cubicBezTo>
                <a:cubicBezTo>
                  <a:pt x="114" y="310"/>
                  <a:pt x="161" y="311"/>
                  <a:pt x="208" y="315"/>
                </a:cubicBezTo>
                <a:cubicBezTo>
                  <a:pt x="219" y="319"/>
                  <a:pt x="233" y="318"/>
                  <a:pt x="241" y="326"/>
                </a:cubicBezTo>
                <a:cubicBezTo>
                  <a:pt x="298" y="383"/>
                  <a:pt x="200" y="343"/>
                  <a:pt x="284" y="369"/>
                </a:cubicBezTo>
                <a:cubicBezTo>
                  <a:pt x="300" y="447"/>
                  <a:pt x="268" y="540"/>
                  <a:pt x="339" y="587"/>
                </a:cubicBezTo>
                <a:cubicBezTo>
                  <a:pt x="367" y="630"/>
                  <a:pt x="386" y="639"/>
                  <a:pt x="436" y="652"/>
                </a:cubicBezTo>
                <a:cubicBezTo>
                  <a:pt x="485" y="685"/>
                  <a:pt x="496" y="686"/>
                  <a:pt x="556" y="674"/>
                </a:cubicBezTo>
                <a:cubicBezTo>
                  <a:pt x="570" y="632"/>
                  <a:pt x="597" y="602"/>
                  <a:pt x="621" y="565"/>
                </a:cubicBezTo>
                <a:cubicBezTo>
                  <a:pt x="641" y="465"/>
                  <a:pt x="640" y="357"/>
                  <a:pt x="567" y="282"/>
                </a:cubicBezTo>
                <a:cubicBezTo>
                  <a:pt x="556" y="251"/>
                  <a:pt x="534" y="228"/>
                  <a:pt x="534" y="196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5410080"/>
            <a:ext cx="1095480" cy="1479600"/>
          </a:xfrm>
          <a:custGeom>
            <a:avLst/>
            <a:gdLst/>
            <a:ahLst/>
            <a:rect l="l" t="t" r="r" b="b"/>
            <a:pathLst>
              <a:path w="690" h="932">
                <a:moveTo>
                  <a:pt x="299" y="0"/>
                </a:moveTo>
                <a:cubicBezTo>
                  <a:pt x="307" y="100"/>
                  <a:pt x="295" y="136"/>
                  <a:pt x="343" y="206"/>
                </a:cubicBezTo>
                <a:cubicBezTo>
                  <a:pt x="354" y="242"/>
                  <a:pt x="348" y="318"/>
                  <a:pt x="386" y="337"/>
                </a:cubicBezTo>
                <a:cubicBezTo>
                  <a:pt x="428" y="358"/>
                  <a:pt x="480" y="352"/>
                  <a:pt x="527" y="359"/>
                </a:cubicBezTo>
                <a:cubicBezTo>
                  <a:pt x="575" y="375"/>
                  <a:pt x="588" y="374"/>
                  <a:pt x="603" y="424"/>
                </a:cubicBezTo>
                <a:cubicBezTo>
                  <a:pt x="609" y="587"/>
                  <a:pt x="568" y="689"/>
                  <a:pt x="647" y="804"/>
                </a:cubicBezTo>
                <a:cubicBezTo>
                  <a:pt x="690" y="932"/>
                  <a:pt x="616" y="893"/>
                  <a:pt x="495" y="902"/>
                </a:cubicBezTo>
                <a:cubicBezTo>
                  <a:pt x="440" y="891"/>
                  <a:pt x="413" y="869"/>
                  <a:pt x="364" y="848"/>
                </a:cubicBezTo>
                <a:cubicBezTo>
                  <a:pt x="294" y="819"/>
                  <a:pt x="207" y="820"/>
                  <a:pt x="136" y="815"/>
                </a:cubicBezTo>
                <a:cubicBezTo>
                  <a:pt x="82" y="778"/>
                  <a:pt x="112" y="804"/>
                  <a:pt x="60" y="728"/>
                </a:cubicBezTo>
                <a:cubicBezTo>
                  <a:pt x="53" y="717"/>
                  <a:pt x="38" y="696"/>
                  <a:pt x="38" y="696"/>
                </a:cubicBezTo>
                <a:cubicBezTo>
                  <a:pt x="42" y="605"/>
                  <a:pt x="45" y="515"/>
                  <a:pt x="49" y="424"/>
                </a:cubicBezTo>
                <a:cubicBezTo>
                  <a:pt x="55" y="295"/>
                  <a:pt x="0" y="173"/>
                  <a:pt x="125" y="141"/>
                </a:cubicBezTo>
                <a:cubicBezTo>
                  <a:pt x="136" y="134"/>
                  <a:pt x="150" y="130"/>
                  <a:pt x="158" y="120"/>
                </a:cubicBezTo>
                <a:cubicBezTo>
                  <a:pt x="165" y="111"/>
                  <a:pt x="161" y="95"/>
                  <a:pt x="169" y="87"/>
                </a:cubicBezTo>
                <a:cubicBezTo>
                  <a:pt x="202" y="54"/>
                  <a:pt x="259" y="28"/>
                  <a:pt x="29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1676520" cy="533160"/>
          </a:xfrm>
          <a:prstGeom prst="cloudCallout">
            <a:avLst>
              <a:gd name="adj1" fmla="val 18087"/>
              <a:gd name="adj2" fmla="val 25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276720"/>
            <a:ext cx="1295280" cy="533160"/>
          </a:xfrm>
          <a:prstGeom prst="cloudCallout">
            <a:avLst>
              <a:gd name="adj1" fmla="val 32106"/>
              <a:gd name="adj2" fmla="val 31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066680"/>
            <a:ext cx="3276720" cy="3505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295280"/>
            <a:ext cx="2361960" cy="32767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523880"/>
            <a:ext cx="1676520" cy="31244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04920"/>
            <a:ext cx="3810240" cy="20574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, land an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388620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80880"/>
            <a:ext cx="2895480" cy="32004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920"/>
            <a:ext cx="1676520" cy="34290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0"/>
            <a:ext cx="3886200" cy="2133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0"/>
            <a:ext cx="5257800" cy="23623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to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10% by clouds &amp;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20% by land &amp;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762120"/>
            <a:ext cx="1600200" cy="28191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257800" y="685800"/>
            <a:ext cx="1752480" cy="26668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762120"/>
            <a:ext cx="441972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762120"/>
            <a:ext cx="289548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09880" y="609120"/>
            <a:ext cx="2057400" cy="26672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90920" y="380520"/>
            <a:ext cx="220968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happens to incoming solar Radiation from the sun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28960" y="1752480"/>
            <a:ext cx="7620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100 % is entering our atmosphere 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land and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the atmosphere and clou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reflected back into space by our atmosphere(5%), clouds(20%), and the land sea surface(5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equal Hea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58128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heats up our earth unequally or un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strongest or most intense at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weakest and more spread out at the p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temperature imbalance—hot equator and cold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943600" cy="485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10820520" cy="741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equal Heating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ash light demo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Strongest?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Weakest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914400" y="1494000"/>
            <a:ext cx="7620120" cy="532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2485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t Transf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r earth moves heat from the equator to the poles by  means of convection and conduc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 a result, our wind and weather develop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3200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51814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arth is heate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______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adiation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from the _____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warm region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the ____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cold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ind and ______develops as a result of this heat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0"/>
            <a:ext cx="85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w does earth transfer heat from the equator to the p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48320" y="21337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into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earth is heate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result, convection transfers heat from the ______ to the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rives our ____and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304812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5909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238560" y="239976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290400">
            <a:off x="1906560" y="1979280"/>
            <a:ext cx="698400" cy="396720"/>
          </a:xfrm>
          <a:prstGeom prst="leftArrow">
            <a:avLst>
              <a:gd name="adj1" fmla="val 50000"/>
              <a:gd name="adj2" fmla="val 44011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041800">
            <a:off x="464832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838080"/>
            <a:ext cx="312408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solar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429000"/>
            <a:ext cx="236232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2173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&amp;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mply put, an atmosphere is a mixture of gases that surrounds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elow is earth’s thin atmosphere and Mar’s thin Carbon Dioxide rich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r Atmosphere keeps us warm; without it, our planet would be a lot coo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519360"/>
            <a:ext cx="4572000" cy="349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630600"/>
            <a:ext cx="45720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Wind sys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sea and land bree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the corioli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he global wi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ily Wi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and Water absorb heat diffe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land heats up faster than water through conduction, causing the air above it to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air over the ocean fills in, creating a convection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wind that flows from the Sea to Land – A sea Bre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6858000" cy="38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133720" y="3200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day a sea breeze develops due to Uneven heating of land and water during the day; wind moves from water to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571500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night, the opposite happens, and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nd 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elops due to Uneven heating of land and water; wind moves from water to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00200" y="3524400"/>
            <a:ext cx="54864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is the difference between a Sea and Land breez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242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during the _____ due to uneven heating of land and water; wind moves from water to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Land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at ____due to uneven heating of land and water; wind moves from land to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1676520"/>
            <a:ext cx="16002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1752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37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4648320" cy="4437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3728880"/>
            <a:ext cx="4537080" cy="308160"/>
          </a:xfrm>
          <a:custGeom>
            <a:avLst/>
            <a:gdLst/>
            <a:ahLst/>
            <a:rect l="l" t="t" r="r" b="b"/>
            <a:pathLst>
              <a:path w="2858" h="194">
                <a:moveTo>
                  <a:pt x="0" y="29"/>
                </a:moveTo>
                <a:cubicBezTo>
                  <a:pt x="55" y="65"/>
                  <a:pt x="109" y="101"/>
                  <a:pt x="234" y="125"/>
                </a:cubicBezTo>
                <a:cubicBezTo>
                  <a:pt x="359" y="149"/>
                  <a:pt x="616" y="163"/>
                  <a:pt x="748" y="173"/>
                </a:cubicBezTo>
                <a:cubicBezTo>
                  <a:pt x="881" y="183"/>
                  <a:pt x="941" y="180"/>
                  <a:pt x="1031" y="183"/>
                </a:cubicBezTo>
                <a:cubicBezTo>
                  <a:pt x="1121" y="186"/>
                  <a:pt x="1204" y="189"/>
                  <a:pt x="1286" y="190"/>
                </a:cubicBezTo>
                <a:cubicBezTo>
                  <a:pt x="1369" y="191"/>
                  <a:pt x="1408" y="194"/>
                  <a:pt x="1527" y="190"/>
                </a:cubicBezTo>
                <a:cubicBezTo>
                  <a:pt x="1646" y="186"/>
                  <a:pt x="1842" y="179"/>
                  <a:pt x="2001" y="168"/>
                </a:cubicBezTo>
                <a:cubicBezTo>
                  <a:pt x="2160" y="157"/>
                  <a:pt x="2370" y="136"/>
                  <a:pt x="2479" y="125"/>
                </a:cubicBezTo>
                <a:cubicBezTo>
                  <a:pt x="2588" y="114"/>
                  <a:pt x="2609" y="111"/>
                  <a:pt x="2658" y="101"/>
                </a:cubicBezTo>
                <a:cubicBezTo>
                  <a:pt x="2706" y="91"/>
                  <a:pt x="2741" y="80"/>
                  <a:pt x="2774" y="63"/>
                </a:cubicBezTo>
                <a:cubicBezTo>
                  <a:pt x="2807" y="46"/>
                  <a:pt x="2841" y="13"/>
                  <a:pt x="2858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30600" y="3763800"/>
            <a:ext cx="4613400" cy="273240"/>
          </a:xfrm>
          <a:custGeom>
            <a:avLst/>
            <a:gdLst/>
            <a:ahLst/>
            <a:rect l="l" t="t" r="r" b="b"/>
            <a:pathLst>
              <a:path w="2906" h="172">
                <a:moveTo>
                  <a:pt x="0" y="7"/>
                </a:moveTo>
                <a:cubicBezTo>
                  <a:pt x="56" y="43"/>
                  <a:pt x="112" y="79"/>
                  <a:pt x="240" y="103"/>
                </a:cubicBezTo>
                <a:cubicBezTo>
                  <a:pt x="368" y="127"/>
                  <a:pt x="632" y="141"/>
                  <a:pt x="768" y="151"/>
                </a:cubicBezTo>
                <a:cubicBezTo>
                  <a:pt x="904" y="161"/>
                  <a:pt x="966" y="158"/>
                  <a:pt x="1058" y="161"/>
                </a:cubicBezTo>
                <a:cubicBezTo>
                  <a:pt x="1150" y="164"/>
                  <a:pt x="1235" y="167"/>
                  <a:pt x="1320" y="168"/>
                </a:cubicBezTo>
                <a:cubicBezTo>
                  <a:pt x="1405" y="169"/>
                  <a:pt x="1445" y="172"/>
                  <a:pt x="1567" y="168"/>
                </a:cubicBezTo>
                <a:cubicBezTo>
                  <a:pt x="1689" y="164"/>
                  <a:pt x="1890" y="157"/>
                  <a:pt x="2053" y="146"/>
                </a:cubicBezTo>
                <a:cubicBezTo>
                  <a:pt x="2216" y="135"/>
                  <a:pt x="2429" y="115"/>
                  <a:pt x="2544" y="103"/>
                </a:cubicBezTo>
                <a:cubicBezTo>
                  <a:pt x="2659" y="91"/>
                  <a:pt x="2702" y="82"/>
                  <a:pt x="2741" y="75"/>
                </a:cubicBezTo>
                <a:cubicBezTo>
                  <a:pt x="2780" y="68"/>
                  <a:pt x="2762" y="66"/>
                  <a:pt x="2779" y="60"/>
                </a:cubicBezTo>
                <a:cubicBezTo>
                  <a:pt x="2796" y="54"/>
                  <a:pt x="2825" y="51"/>
                  <a:pt x="2846" y="41"/>
                </a:cubicBezTo>
                <a:cubicBezTo>
                  <a:pt x="2867" y="31"/>
                  <a:pt x="2894" y="9"/>
                  <a:pt x="290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62320" y="190476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763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straigh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9718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114800"/>
            <a:ext cx="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495288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1981080"/>
            <a:ext cx="851040" cy="198144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0384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781680" y="4114800"/>
            <a:ext cx="698760" cy="175248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curved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2666880"/>
            <a:ext cx="1295640" cy="38124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238160" y="4876920"/>
            <a:ext cx="1219320" cy="30456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40384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8380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nor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7913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sou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288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Coriolis Effec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ffect created by the ______earth that deflects all free moving objects such as air and water to the ____north of the equator (Northern Hemisphere) and to the ____ south of the equator (Southern Hemispher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190512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2895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obal Wind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352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just learned that earth transfers heat from the equator to the poles by conv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4416480"/>
            <a:ext cx="88423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t turn's out, our earth has predictable wind patterns that form convection cells, moving heat from the equator, all the way to the p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prevailing wind patter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657600" y="-144360"/>
            <a:ext cx="57150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520400">
            <a:off x="1523520" y="342900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21337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air ri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276720"/>
            <a:ext cx="685800" cy="26676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3885480"/>
            <a:ext cx="685800" cy="19044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91440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0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east to 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2895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30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52280"/>
            <a:ext cx="2895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60-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 rot="221400">
            <a:off x="3733920" y="38052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2133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cubicBezTo>
                  <a:pt x="30" y="578"/>
                  <a:pt x="92" y="451"/>
                  <a:pt x="180" y="347"/>
                </a:cubicBezTo>
                <a:cubicBezTo>
                  <a:pt x="268" y="243"/>
                  <a:pt x="456" y="72"/>
                  <a:pt x="528" y="0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5053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1138600">
            <a:off x="4343040" y="3809520"/>
            <a:ext cx="1371600" cy="52092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0481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1520400">
            <a:off x="2895120" y="837720"/>
            <a:ext cx="1125720" cy="428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1954200">
            <a:off x="1600200" y="2133720"/>
            <a:ext cx="1143000" cy="428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rot="20845800">
            <a:off x="5562360" y="388620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2320" y="736560"/>
            <a:ext cx="1203480" cy="1081080"/>
          </a:xfrm>
          <a:custGeom>
            <a:avLst/>
            <a:gdLst/>
            <a:ahLst/>
            <a:rect l="l" t="t" r="r" b="b"/>
            <a:pathLst>
              <a:path w="758" h="681">
                <a:moveTo>
                  <a:pt x="758" y="0"/>
                </a:moveTo>
                <a:cubicBezTo>
                  <a:pt x="653" y="82"/>
                  <a:pt x="244" y="381"/>
                  <a:pt x="122" y="494"/>
                </a:cubicBezTo>
                <a:cubicBezTo>
                  <a:pt x="0" y="607"/>
                  <a:pt x="45" y="642"/>
                  <a:pt x="25" y="681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838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0" y="624"/>
                </a:moveTo>
                <a:cubicBezTo>
                  <a:pt x="40" y="628"/>
                  <a:pt x="80" y="632"/>
                  <a:pt x="144" y="576"/>
                </a:cubicBezTo>
                <a:cubicBezTo>
                  <a:pt x="208" y="520"/>
                  <a:pt x="288" y="384"/>
                  <a:pt x="384" y="288"/>
                </a:cubicBezTo>
                <a:cubicBezTo>
                  <a:pt x="480" y="192"/>
                  <a:pt x="664" y="48"/>
                  <a:pt x="72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181620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678400">
            <a:off x="4267080" y="228600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686000">
            <a:off x="4952880" y="243828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071200">
            <a:off x="5714640" y="236232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355680"/>
            <a:ext cx="914400" cy="406440"/>
          </a:xfrm>
          <a:custGeom>
            <a:avLst/>
            <a:gdLst/>
            <a:ahLst/>
            <a:rect l="l" t="t" r="r" b="b"/>
            <a:pathLst>
              <a:path w="576" h="256">
                <a:moveTo>
                  <a:pt x="0" y="256"/>
                </a:moveTo>
                <a:cubicBezTo>
                  <a:pt x="32" y="204"/>
                  <a:pt x="64" y="152"/>
                  <a:pt x="144" y="112"/>
                </a:cubicBezTo>
                <a:cubicBezTo>
                  <a:pt x="224" y="72"/>
                  <a:pt x="408" y="32"/>
                  <a:pt x="480" y="16"/>
                </a:cubicBezTo>
                <a:cubicBezTo>
                  <a:pt x="552" y="0"/>
                  <a:pt x="560" y="16"/>
                  <a:pt x="576" y="16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457200"/>
            <a:ext cx="812880" cy="228600"/>
          </a:xfrm>
          <a:custGeom>
            <a:avLst/>
            <a:gdLst/>
            <a:ahLst/>
            <a:rect l="l" t="t" r="r" b="b"/>
            <a:pathLst>
              <a:path w="464" h="144">
                <a:moveTo>
                  <a:pt x="432" y="0"/>
                </a:moveTo>
                <a:cubicBezTo>
                  <a:pt x="448" y="16"/>
                  <a:pt x="464" y="32"/>
                  <a:pt x="432" y="48"/>
                </a:cubicBezTo>
                <a:cubicBezTo>
                  <a:pt x="400" y="64"/>
                  <a:pt x="312" y="80"/>
                  <a:pt x="240" y="96"/>
                </a:cubicBezTo>
                <a:cubicBezTo>
                  <a:pt x="168" y="112"/>
                  <a:pt x="40" y="136"/>
                  <a:pt x="0" y="144"/>
                </a:cubicBezTo>
              </a:path>
            </a:pathLst>
          </a:custGeom>
          <a:solidFill>
            <a:srgbClr val="0000a4"/>
          </a:solidFill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1368400">
            <a:off x="4723920" y="1219320"/>
            <a:ext cx="914400" cy="330120"/>
          </a:xfrm>
          <a:custGeom>
            <a:avLst/>
            <a:gdLst/>
            <a:ahLst/>
            <a:rect l="l" t="t" r="r" b="b"/>
            <a:pathLst>
              <a:path w="576" h="208">
                <a:moveTo>
                  <a:pt x="576" y="0"/>
                </a:moveTo>
                <a:cubicBezTo>
                  <a:pt x="560" y="32"/>
                  <a:pt x="544" y="64"/>
                  <a:pt x="480" y="96"/>
                </a:cubicBezTo>
                <a:cubicBezTo>
                  <a:pt x="416" y="128"/>
                  <a:pt x="272" y="176"/>
                  <a:pt x="192" y="192"/>
                </a:cubicBezTo>
                <a:cubicBezTo>
                  <a:pt x="112" y="208"/>
                  <a:pt x="32" y="192"/>
                  <a:pt x="0" y="192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0760" y="1155600"/>
            <a:ext cx="768600" cy="58428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484" y="0"/>
                </a:moveTo>
                <a:cubicBezTo>
                  <a:pt x="479" y="36"/>
                  <a:pt x="471" y="68"/>
                  <a:pt x="424" y="122"/>
                </a:cubicBezTo>
                <a:cubicBezTo>
                  <a:pt x="377" y="176"/>
                  <a:pt x="272" y="286"/>
                  <a:pt x="201" y="327"/>
                </a:cubicBezTo>
                <a:cubicBezTo>
                  <a:pt x="130" y="368"/>
                  <a:pt x="42" y="360"/>
                  <a:pt x="0" y="368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9480" y="979560"/>
            <a:ext cx="420840" cy="741240"/>
          </a:xfrm>
          <a:custGeom>
            <a:avLst/>
            <a:gdLst/>
            <a:ahLst/>
            <a:rect l="l" t="t" r="r" b="b"/>
            <a:pathLst>
              <a:path w="265" h="467">
                <a:moveTo>
                  <a:pt x="240" y="0"/>
                </a:moveTo>
                <a:cubicBezTo>
                  <a:pt x="243" y="24"/>
                  <a:pt x="265" y="88"/>
                  <a:pt x="255" y="146"/>
                </a:cubicBezTo>
                <a:cubicBezTo>
                  <a:pt x="245" y="204"/>
                  <a:pt x="222" y="295"/>
                  <a:pt x="180" y="348"/>
                </a:cubicBezTo>
                <a:cubicBezTo>
                  <a:pt x="138" y="401"/>
                  <a:pt x="37" y="442"/>
                  <a:pt x="0" y="467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Global wind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hot air rises at the equ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0 - 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between 30 - 6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blow from ____ to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60 -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1828800"/>
            <a:ext cx="1600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25909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an Atmosphe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mixture of gases that surrounds a pla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800600" cy="36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4343400" cy="301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3276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Please Draw &amp; lab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______develops during the day due to uneven heating of land and water; wind moves from water to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s at night due to uneven heating of land and water; wind moves from land to 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6782040" cy="5410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143000" cy="871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924680" y="609588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34520" y="5029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3120" y="40384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2743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16765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1828800"/>
            <a:ext cx="1981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05740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2004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572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809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5334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057400"/>
            <a:ext cx="1676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63244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breeze.wav"/>
      </p:stSnd>
    </p:sndAc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 Issu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smog and how it is ca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current state of our ozone l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our oxygen rich atmosphe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mo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372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 is a type of pollutant that affects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mog made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nerally smog is made up of pollutants from our car exhaust and industry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ually unburned hydrocarb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ox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ollutants mix with oxygen to and sunlight to create a brown L.A. type of 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288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uses of Smo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1" name="" descr="smokestacks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27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4800600" cy="32925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991040" y="2209680"/>
            <a:ext cx="4152960" cy="4648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095880" y="0"/>
            <a:ext cx="3048120" cy="228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o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wo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b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mo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ir pollutants from our ___ exhaust and industry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3520" y="2857680"/>
            <a:ext cx="2971800" cy="2595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971800" cy="1754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34320" y="220968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19810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mog and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mponent of smog is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is generally considered a beneficial thing because it helps protect us from the sun’s deadly 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ozone should be high in our atmosphere, in the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ozone makes up smog and is very damaging to our lungs an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zone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 -- Good or Bad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80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419720" cy="3791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Ozone is found in smo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an scar our lungs if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th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Ozone is found up high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tmosphere in the ozone 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protects us from the sun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ful UV r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mosphere Composi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575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t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oxygen did you just take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gases did you inh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breathe, you take in about a 21% oxygen and 79%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gases include very small amounts include: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g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ter vapor, carbon dioxide, methane, and hydrogen, and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image: pie chart showing that air is made up of nitrogen (78%), oxygen (21%) and other gases (1%)"/>
          <p:cNvPicPr/>
          <p:nvPr/>
        </p:nvPicPr>
        <p:blipFill>
          <a:blip r:embed="rId2"/>
          <a:stretch/>
        </p:blipFill>
        <p:spPr>
          <a:xfrm>
            <a:off x="4495680" y="1447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ormation of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ospheric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946160"/>
            <a:ext cx="5029200" cy="491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57600" cy="2341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99072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les in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zone Layer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60020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Pollution and a chemical called CFC’s have created holes in the ozone la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FC’s are a chemical released from aerosol spray c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This allows for more ultraviolet (UV) radiation to pass through our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As a result skin cancer and other health problems have increa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Ozone Lay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 made up of 3 oxygen atoms (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 is protects us from harmful _____ solar radiation (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llution and  CFC’s have created holes in the ozon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419112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9625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3035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6" name="breeze.wav"/>
      </p:stSnd>
    </p:sndAc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Plants and microscopic algae called Phytoplank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 Photosynthesis, these organisms release free oxygen into our atmosphere 2.3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hytoplankton and cynanobacteria released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ere does Oxygen in our Atmosphere come from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microscopic algae called Phytoplankton and cyano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_____, these organisms release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228600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81680" y="205740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1905120"/>
            <a:ext cx="175248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1905120"/>
            <a:ext cx="1868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1066680"/>
            <a:ext cx="6933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od ozone is found high up in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d ozone is found in 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____ in our ozone layer are caused by air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_____ rich atmosphere formed ___billion years ago through photosynthesis from phytoplankton and cyanobacteria 2.3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Gases make up Earth’s Atmospher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727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rth atmosphere is made up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 % Nitrogen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% Oxy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% argon, carbon dioxide(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, water vapor, hydrogen and met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43600" y="5638680"/>
            <a:ext cx="1262160" cy="9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2920" y="1828800"/>
            <a:ext cx="16761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15238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295280"/>
            <a:ext cx="4498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y keeps our atmosphere and air from drifting out into spa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it as the weight of the air pushing down on 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you think air pressure is greatest, at sea level, or high up on the top of a mounti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288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Air Pressu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the air in the atmosphere pressing ____ on the Ea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28800" y="4952880"/>
            <a:ext cx="16765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6483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0"/>
            <a:ext cx="48006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are the 4 lay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our atmosp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3505320" cy="2438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-1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ur weath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75% of our 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ir pressure is greates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52680" y="54864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733920"/>
            <a:ext cx="3505320" cy="19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- 5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zone layer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sorbs UV radia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819000" cy="6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09680"/>
            <a:ext cx="3505320" cy="1752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0- 85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eors burn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352680" y="27432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80880"/>
            <a:ext cx="35053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m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5km up to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shuttle exists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352680" y="1143000"/>
            <a:ext cx="8193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772400" y="5813280"/>
            <a:ext cx="1371600" cy="10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8" name="breez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08:59Z</dcterms:created>
  <dc:creator>Chavez High</dc:creator>
  <dc:description/>
  <dc:language>en-US</dc:language>
  <cp:lastModifiedBy>jfuller</cp:lastModifiedBy>
  <dcterms:modified xsi:type="dcterms:W3CDTF">2010-11-09T22:45:09Z</dcterms:modified>
  <cp:revision>139</cp:revision>
  <dc:subject/>
  <dc:title>Chapter 14 Atmosphere</dc:title>
</cp:coreProperties>
</file>